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862-38D2-4F6D-A3C6-80C83163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8F5-1D92-45E8-9ADC-77523111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CB4-6AE9-4CDD-91D9-308E0A51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D68-1D49-47A3-A1A9-A3255F65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60E2-5AF6-43E7-9B5D-F0E10E2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2292-221F-4EFA-9CF5-99BCA82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BBB5-704B-42E2-962D-4F2C9E1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0B8A-76ED-4DBB-B19C-77332E7B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243D-FB9D-436E-8D22-741791F8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3986-2A0A-4548-AA61-AA7B22F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0910-B463-45C8-BB0F-5C83BDB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7E7-5D3C-4FB1-8C61-55CA0250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794C-C02C-47AA-B3CB-60095EC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B518-D68D-45CD-ABA1-C1115900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F966-3571-4DA7-9F44-81E1CF1A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6255-7291-4F3E-8628-DCB17823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651C-2FFC-4497-820C-23BA5DBB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9E3-531D-449F-A1B4-516A7A9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103-2AE7-4058-8189-ADBF90AE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D46-99A3-42EA-B9E6-9E8B8517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26F-BDD1-4CF0-B566-E47BF433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163-DA31-480D-B4DD-D185429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829-1FA5-4817-AF37-74DA585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EB4-49AD-4547-937C-B93597C5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3D5D-F0CA-4AC8-A37B-A7502FC32E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AAA3-C586-4A5E-A852-A8BF19E63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et s play a g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 say a cha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,sing,I can 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,dance,she can 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,run,we  can r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mp,jump,he can j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make, they can ma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n they do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2" descr="90669587"/>
          <p:cNvPicPr/>
          <p:nvPr/>
        </p:nvPicPr>
        <p:blipFill>
          <a:blip r:embed="rId1"/>
          <a:stretch/>
        </p:blipFill>
        <p:spPr>
          <a:xfrm>
            <a:off x="4500720" y="3789360"/>
            <a:ext cx="437832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817dbf159aa5b88fa6ef3f5c"/>
          <p:cNvPicPr/>
          <p:nvPr/>
        </p:nvPicPr>
        <p:blipFill>
          <a:blip r:embed="rId2"/>
          <a:stretch/>
        </p:blipFill>
        <p:spPr>
          <a:xfrm>
            <a:off x="179280" y="907920"/>
            <a:ext cx="432144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3"/>
          <a:stretch/>
        </p:blipFill>
        <p:spPr>
          <a:xfrm>
            <a:off x="214200" y="3857760"/>
            <a:ext cx="4071960" cy="2857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4857840" y="928800"/>
            <a:ext cx="4011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Can lingling control the b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Can lingling catch the b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Who is the fantastic goalkeep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the winn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、词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踢好足球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接好球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控制球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跑得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700360" y="1341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play football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14680" y="255600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catch the ball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078360" y="37800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control the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54080" y="4788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run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二、完成句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She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good,well) te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She can sing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ood,wel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Tom can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ake) a c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ling catch the ball?Yes,she ca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My brother  is good at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ootbal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2000" y="82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085640" y="18446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569760" y="29163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582200" y="3995640"/>
            <a:ext cx="5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495760" y="50752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are grea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Can Dam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ntrol)the b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Amy is good at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play)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They ar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good,well)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481920" y="162864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664720" y="2627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359600" y="38512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329280" y="5075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alibri"/>
              </a:rPr>
              <a:t>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work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根据本节课所学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用法，对自己的好朋友进行调查，并作记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向父母介绍自己能做的、会做的事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2444040" y="2276640"/>
            <a:ext cx="52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9T14:43:02Z</dcterms:created>
  <dc:creator/>
  <dc:description/>
  <dc:language>en-US</dc:language>
  <cp:lastModifiedBy>Administrator</cp:lastModifiedBy>
  <dcterms:modified xsi:type="dcterms:W3CDTF">2016-03-29T00:59:29Z</dcterms:modified>
  <cp:revision>3</cp:revision>
  <dc:subject/>
  <dc:title> let s play a game</dc:title>
</cp:coreProperties>
</file>